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157F-0D81-4C7C-9861-44658FB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E035-A8A8-4948-85DC-E788D33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8E52-79C7-4B47-B376-2CB4DEAE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9C17-95DA-454F-A94B-C4B04666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015-5EB4-45C9-A04C-D85ED380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304D-93FA-49E4-8A90-0F6D27F9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721A-A586-49AC-9B24-D816D3CA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2B31-491A-4333-AC20-50AD808F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194-E4F2-4C16-9481-2A523FDC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3CA-3C6C-4B51-82FF-BD0F331F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03D9-75F8-4834-B22A-C980BD6B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D1F8-98D0-4BFD-A33E-F7FEE18E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5BE3-0FA2-45CC-A20C-AADEFD0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DB1-B63E-4F4F-9A8F-92AE7E44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A08-2186-4F29-B87F-D1615998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F442-9FA5-49E8-A026-6B79F3D0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A55E-FE7D-4FAD-917A-E9F44B16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220B-DE2B-468F-8E53-1E283BB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CA61-A92C-4C9B-B837-088BC55B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46FB-3886-48F7-9B3C-AB53388D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3626-A06C-495F-86C6-8AA3677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595E-5D24-4C74-9360-5E78367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C536-438E-4533-AD88-3E54C75A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C7D1-1D41-4E9A-B586-BF7DC6E6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DD4-3219-40B4-A532-680B7AE9D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8f6dd1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9975e0"/>
                  </a:gs>
                  <a:gs pos="100000">
                    <a:srgbClr val="ae85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9371d8"/>
                </a:gs>
                <a:gs pos="100000">
                  <a:srgbClr val="ae8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ae85ff"/>
                  </a:gs>
                  <a:gs pos="100000">
                    <a:srgbClr val="9e79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8f6dd1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9975e0"/>
                  </a:gs>
                  <a:gs pos="100000">
                    <a:srgbClr val="ae85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9371d8"/>
                </a:gs>
                <a:gs pos="100000">
                  <a:srgbClr val="ae85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416-7977-49CE-B861-202DB04BAB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ru-RU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70014"/>
                </a:solidFill>
                <a:latin typeface="Book Antiqua"/>
              </a:rPr>
              <a:t>Тема: Трудовые ресурс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31840" y="77760"/>
            <a:ext cx="891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Схема 6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610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58760" y="3213000"/>
            <a:ext cx="8985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58760" y="357120"/>
            <a:ext cx="89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14200" y="26280"/>
            <a:ext cx="864396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Номинальная заработная плат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это сумма денег, полученная за час, день или неделю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Реальная заработная плат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это количество товаров и услуг, которые можно приобрести на номинальную заработную плату. Это покупательная способность полученных денег. Реальная заработная плата зависит от номинальной и цен на приобретаемые товары и усл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Изменения реальной заработной платы в процентном отношении можно определить путем вычитания процентного изменения в уровне цен из процентного изменения в номинальной заработной плате. Номинальная и реальная заработная плата не обязательно изменяются в одном и том же направлении. Во времена нашей перестройки номинальная заработная плата растет, а реальная в то же самое время падает из-за более быстрого роста цен на товары и услуг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8760" y="149400"/>
            <a:ext cx="89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58760" y="230976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8760" y="317340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58760" y="403704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58760" y="1714680"/>
            <a:ext cx="898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214200" y="285840"/>
            <a:ext cx="86439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Структура кадров предприя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обеспечении эффективности производства большое значение имеет структура кадров предприят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Персонал предприятия</a:t>
            </a:r>
            <a:r>
              <a:rPr b="0" i="1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(кадры, трудовой коллектив) - это совокупность работников, входящих в его списочный соста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мировой практике чаще всего используется классификация, при которой работники делятся на менеджеров и исполнител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Менеджеры - это организаторы производства различных уровн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ерсонал промышленных предприятий делится, прежде всего, на промышленно-производственный и непромышленный персонал. К промышленно-производственному персоналу относятся работники, которые непосредственно связаны с производством и его обслуживанием: рабочие производственных цехов и участков, заводских лабораторий, управленческий персонал. К непромышленному персоналу относятся работники, занятые в непроизводственной сфере: жилищно-коммунальных хозяйствах, детских садах, столовых, принадлежащих предприятию и т.д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79280" y="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14200" y="6480"/>
            <a:ext cx="878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рабочим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относятся лица, непосредственно занятые в процессе создания материальных ценностей, а также занятые ремонтом, перемещением грузов, перевозкой пассажиров, оказанием материальных услуг и д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Схема 8" descr=""/>
          <p:cNvPicPr/>
          <p:nvPr/>
        </p:nvPicPr>
        <p:blipFill>
          <a:blip r:embed="rId1"/>
          <a:stretch/>
        </p:blipFill>
        <p:spPr>
          <a:xfrm>
            <a:off x="633240" y="1914480"/>
            <a:ext cx="7804440" cy="474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14200" y="-278280"/>
            <a:ext cx="87868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 уровню, занимаемому в общей системе управления, все руководители подразделяются на руководителей низового звена, среднего и высшего зве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К 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руководителям</a:t>
            </a:r>
            <a:r>
              <a:rPr b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низового звена</a:t>
            </a: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тносят мастеров, старших мастеров, прорабов, начальников небольших цехов, а также руководителей подразделений внутри функциональных отделов и служб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Руководители среднего звена</a:t>
            </a:r>
            <a:r>
              <a:rPr b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это директора предприятий, генеральные директора объединений, начальники крупных цех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Руководящие работники высшего звена</a:t>
            </a:r>
            <a:r>
              <a:rPr b="0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это руководители финансово-промышленных групп, генеральные директора крупных объединений, руководители функциональных отделов министерств, ведомств и их заместите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К 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специалистам</a:t>
            </a: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тносятся работники, интеллектуального труда (бухгалтеры, экономисты, инжене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Служащие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это работники, осуществляющие подготовку и оформление документации, учет и контроль, хозяйственное обслуживание. К ним относятся агенты по снабжению, машинистки, кассиры, делопроизводители, табельщики, экспедито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8760" y="77760"/>
            <a:ext cx="8985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14200" y="28080"/>
            <a:ext cx="8715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В зависимости от характера трудовой деятельности персонал предприятия подразделяют п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фессиям, специальностям и уровню квалифика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фессия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- вид деятельности, требующий определенных знаний и трудовых навыков, которые приобретаются путем общего или специального образования и практического опы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Специальность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вид деятельности в рамках той или иной профессии, который имеет специфические особенности и требует от работников дополнительных специальных знаний и навыков. Например: экономист-плановик, экономист-бухгалтер, экономист-финансист, экономист-трудовик в рамках профессии экономиста. Или: слесарь-наладчик, слесарь-монтажник, слесарь-сантехник в рамках рабочей профессии слесар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валификация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пределяет уровень знаний и трудовых навыков работника по специальности, который отображается в квалификационных (тарифных) разрядах и категория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7480" y="77760"/>
            <a:ext cx="90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60200" y="2570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60200" y="29304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60200" y="3290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357120" y="214200"/>
            <a:ext cx="842976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Производительность труда и методы ее измер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  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Производительность труд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характеризует эффективность труда в материальном производстве. Это не только один из важнейших показателей эффективности производства, но и показатель, имеющий большое экономическое и социальное значение на макроуров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  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Производительность труда</a:t>
            </a: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 это количество продукции, произведенное за определенный период в расчете на одного работника или затраты рабочего времени на единицу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  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Следует различать понятия производительности и интенсивности труда. При повышении интенсивности труда повышается количество физических и умственных усилий в единицу времени и за счет этого увеличивается количество производимой в единицу времени продукции.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Повышение интенсивности труда требует повышения его оплаты. Производительность труда повышается в результате изменения технологии, применения более совершенного оборудования, применения новых приемов труда и не всегда требует повышения заработной плат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79280" y="1494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31840" y="108576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31840" y="209376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31840" y="374976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428760" y="3105000"/>
            <a:ext cx="75722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Рис 1. Производительность и интенсивность труд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1065" descr="http://econpredpr.narod.ru/Pict/Image501.gif"/>
          <p:cNvPicPr/>
          <p:nvPr/>
        </p:nvPicPr>
        <p:blipFill>
          <a:blip r:embed="rId1"/>
          <a:stretch/>
        </p:blipFill>
        <p:spPr>
          <a:xfrm>
            <a:off x="1285920" y="214200"/>
            <a:ext cx="6215040" cy="5857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2920" y="149400"/>
            <a:ext cx="900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Трудоемкость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это количество труда, необходимое для выработки единицы продукции. Трудоемкость является характеристикой затратности труда (расходования рабочей сил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качестве измерителей количества произведенной продукции используют натуральные (т, м, м3, шт. и т.д.) и стоимостные показате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ыработка определяется в расчете на одного основного рабочего, на одного рабочего и одного работающе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ри определении выработки на одног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основного рабочего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количество произведенной продукции делится на численность основных рабоч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Если рассчитывается выработка на одног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рабочего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,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количество произведенной продукции делится на суммарную численность основных и вспомогательных рабоч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Для определения выработки на одного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работающего</a:t>
            </a: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количество произведенной продукции делится на численность всего промышленно- производственного персонал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357280" y="485784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0" y="54356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где В    - выработка продукции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К     - количество произведенной за период продукции в натуральных или стоимостных измерителях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70014"/>
                </a:solidFill>
                <a:latin typeface="Arial"/>
                <a:ea typeface="Times New Roman"/>
              </a:rPr>
              <a:t>Ч - численность работников (основных рабочих, основных и вспомогательных, промышленно-производственного персонал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31840" y="365040"/>
            <a:ext cx="891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57120" y="23400"/>
            <a:ext cx="8786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Трудоемкость продукции, как и выработка, может быть рассчитана в разных вариантах. Различают технологическую, производственную и полную трудоемк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Технологическую трудоемкость продукции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находят путем деления затрат труда основных рабочих на количество произведенной ими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изводственную трудоемкость продукции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рассчитывают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делением затрат труда основных и вспомогательных рабочих на количество произведенной продук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лную трудоемкость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пределяют делением затрат труда промышленно-производственного персонала на количество произведенной продукци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8760" y="149400"/>
            <a:ext cx="8985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014"/>
                </a:solidFill>
                <a:latin typeface="Book Antiqua"/>
              </a:rPr>
              <a:t>Рынок труда: сущность и механизм функционир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70014"/>
                </a:solidFill>
                <a:uFillTx/>
                <a:latin typeface="Book Antiqua"/>
              </a:rPr>
              <a:t>Труд</a:t>
            </a: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 это вклад в процесс производства, осуществляемый людьми в форме непосредственного расходования умственных и физических усили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В условиях рыночных отношений </a:t>
            </a: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«способность к труду»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 делает рабочую силу товаром. Этот товар отличается следующими признакам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создает стоимость большую, чем он стои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без его привлечения невозможно осуществлять любое производств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-от него во многом зависит эффективность использования основных и оборотных сред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2920" y="142920"/>
            <a:ext cx="900108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Кадровая политика на предприятии.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Управление персоналом связано с разработкой и реализацией кадровой политики, основными целями которой являются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удовлетворение потребности предприятия в кадрах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беспечение рациональной расстановки, профессионально-квалификационного и должностного продвижения кадров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эффективное использование трудового потенциала предприят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0014"/>
                </a:solidFill>
                <a:uFillTx/>
                <a:latin typeface="Book Antiqua"/>
              </a:rPr>
              <a:t>Реализация этих целей предполагает выполнение многих функций, а именно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планирование, наем и размещение рабочей силы, включая отбор, ориентацию и адаптацию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бучение, подготовку и переподготовку работников, повышение квалифика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ценку персонала (проведение аттестации работников, продвижение по службе и организация карьеры)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пределение условий найма, труда и его оплат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 мотивацию труда и соблюдение дисциплин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обеспечение формальных и неформальных связей, создание благоприятного психологического климата в коллективе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1840" y="293760"/>
            <a:ext cx="891216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Рынок труда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 устойчивый социальный институт, результат длительного исторического процесса, в основе которого лежат непрерывный количественный рост и усложнение производительных си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Основные сегменты рынка труда.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дин рынок охватывает рабочие места специалистов с высшим образованием, управляющих и администраторов всех звеньев, высококвалифицированных рабочих. Это высокооплачиваемые группы рабочей силы, имеющие высокий уровень квалификации, надежные гарантии занятости. К нему также относятся рабочие места техников, административно-вспомогательного персонала и работников средней квалифика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Другой рынок охватывает рабочие места, как правило, не требующие специальной подготовки и значительной квалификации. Их занимают работники обслуживания (к ним относят поваров, официантов, медицинский обслуживающий персонал, полицейских, пожарников, прислугу, уборщиков и т.д.), неквалифицированные рабочие, низшие категории служащ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8760" y="0"/>
            <a:ext cx="8985240" cy="76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70014"/>
                </a:solidFill>
                <a:latin typeface="Book Antiqua"/>
              </a:rPr>
              <a:t>Трудовой потенциал и трудовые ресурсы, их состав и структура, источники формир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о статистике к рабочей силе в развитых странах относят всех занятых (включая военнослужащих) и безработных. Синонимом понятия является категория «экономически активное население». В статистике под ней обычно подразумевается гражданская рабочая сила, т.е. за исключением военнослужащ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Занятыми являются лица обоего пола, которые в рассматриваемый период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выполняли работу по найму за вознаграждение на условиях полного либо неполного рабочего времени, а также приносящую доход работу не по найму самостоятельно или с компаньонами, как с привлечением, так и без привлечения наемных работник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выполняли работу без оплаты на семейном предприят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-временно отсутствовали на работе из-за болезни, ухода за больными, ежегодного отпуска или выходных дней, обучения, учебного отпуска, отпуска без сохранения или с частичным сохранением содержания по инициативе администрации, забастовки, других подобных причин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31840" y="214200"/>
            <a:ext cx="83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14"/>
                </a:solidFill>
                <a:latin typeface="Book Antiqu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14200" y="1332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Отраслевая и профессионально-квалификационная структура</a:t>
            </a:r>
            <a:r>
              <a:rPr b="1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.</a:t>
            </a:r>
            <a:r>
              <a:rPr b="0" i="1" lang="ru-RU" sz="2000" spc="-1" strike="noStrike" u="sng">
                <a:solidFill>
                  <a:srgbClr val="070014"/>
                </a:solidFill>
                <a:uFillTx/>
                <a:latin typeface="Book Antiqu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В изменениях, происходящих в отраслевой структуре рабочей силы развитых стран в последние десятилетия, прослеживаются две важнейшие тенденции: резкое сокращение численности занятых в сельском хозяйстве и существенное увеличение их в сфере услуг в связи с ее расширением и превращением в ведущую сферу приложения общественного тру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  <a:ea typeface="Calibri"/>
              </a:rPr>
              <a:t>Заметна эволюция и в профессионально-квалификационном составе рабочей силы. Само понятие «профессионально-квалификационная структура рабочей силы» неоднозначн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Схема 9" descr=""/>
          <p:cNvPicPr/>
          <p:nvPr/>
        </p:nvPicPr>
        <p:blipFill>
          <a:blip r:embed="rId1"/>
          <a:stretch/>
        </p:blipFill>
        <p:spPr>
          <a:xfrm>
            <a:off x="341280" y="1390680"/>
            <a:ext cx="839484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31840" y="22068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7480" y="2381400"/>
            <a:ext cx="90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85840" y="-181440"/>
            <a:ext cx="8643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и этом под </a:t>
            </a: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рофессиональной структурой 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нимается совокупность представителей различных профессий и профессиональных групп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Под </a:t>
            </a: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валификационной структурой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- совокупность работников различных уровней квалифика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Содержание квалификации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 различных профессий представляет набор требуемых для выполнения данной работы навыков, знаний, опыта, других компонентов квалифика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Говоря о </a:t>
            </a:r>
            <a:r>
              <a:rPr b="1" i="1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квалификационной структуре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  <a:ea typeface="Times New Roman"/>
              </a:rPr>
              <a:t>, необходимо отметить, что характерной чертой качественной эволюции современной рабочей силы является рост ее образовательного уровн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7480" y="77760"/>
            <a:ext cx="90565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Инвестиции, как источник спроса на труд.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Рыночный спрос на труд есть сумма спроса фирм. Эластичность спроса на труд зависит от эластичности спроса на продукцию фирмы, от производительности труда и от легкости и эффективности замены живого труда машинами.        Спрос на труд отдельной фирмы связан обратной зависимостью с уровнем реальной заработной плат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Предложение труда строится рабочими на основе сопоставления привлекательности дохода, который они получают за час труда, и удовлетворения, получаемого за час досуга. Досуг только тогда приносит удовлетворение, когда есть что потреблять. Спрос на досуг определяет предложение труда. Чем выше реальная заработная плата, тем выше потери, связанные с отказом работ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Единого для всей экономики рынка труда не существует. Он делится по профессиям, отраслям, территориям. Работники разных профессий и квалификаций получают разную заработную плату. Зависит она и от места работы. Существуют опасные, неприятные, малопривлекательные виды труда. Условия равновесия на рынке труда в значительной степени определяются государственным вмешательством, а его функционирование связано с профсоюзами и союзами предпринимателей. На предложение труда влияет наличие пособий по безработице, установление минимальных ставок заработной плат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3120" y="285840"/>
            <a:ext cx="88408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       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В ходе накопления происходят существенные изменения в структуре капитала, которые связаны с научно-техническим прогрессом</a:t>
            </a:r>
            <a:r>
              <a:rPr b="0" i="1" lang="ru-RU" sz="2000" spc="-1" strike="noStrike">
                <a:solidFill>
                  <a:srgbClr val="070014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Эти изменения имеют свои последств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о-перв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часть занятых рабочих в данном виде производства может оказаться излишней и уволенной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о-втор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рост технической вооруженности опирается на более сложный по своей квалификации и уровню подготовки труд. Новая техника требует и новых рабочих, умеющих ее использова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-третьи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возникают новые рабочие места в отраслях, выпускающих эту новую технику и осваивающих новые технолог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-четверт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растет по этой причине занятость населения в посреднических фирмах, оказывающих услуги производству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-в-пятых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, всем этим процессом вносятся существенные коррективы в систему подготовки и переподготовки кадров специалистов и рабочих основных професси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Заголовок 1"/>
          <p:cNvSpPr/>
          <p:nvPr/>
        </p:nvSpPr>
        <p:spPr>
          <a:xfrm>
            <a:off x="0" y="214200"/>
            <a:ext cx="91440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87480" y="3533760"/>
            <a:ext cx="90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87480" y="500040"/>
            <a:ext cx="90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285840" y="285840"/>
            <a:ext cx="8286840" cy="68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Заработная плата как категория рынка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Заработная плата как плата за труд выдвигается на первый план потому, что среди всех экономических ресурсов это наиболее дорогостоящий элемент, но и по той причине, что для большинства населения это, по существу, единственный или по крайне мере, главный источник дох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 современной экономической теории заработная плата определяется как цена, выплачиваемая за использование труда, при этом термин «труд» рассматривается как широкое понятие.     Он включает в себя оплату труда рабочих самых разных профессий, специалистов всех профилей и владельцев мелких предприятий в сфере обслуживания населения. С последней категорией трудно согласиться. Владелец мастерской по ремонту бытовой техники или парикмахерской является предпринимателем, и поэтому его доход не может принимать форму заработной платы. Ставку платы за единицу времени, объем работы или услуг они определяют сами, исходя из сложившейся конъюнктур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Компьютер</cp:lastModifiedBy>
  <dcterms:modified xsi:type="dcterms:W3CDTF">2012-05-27T15:39:02Z</dcterms:modified>
  <cp:revision>18</cp:revision>
  <dc:subject/>
  <dc:title>Слайд 1</dc:title>
</cp:coreProperties>
</file>